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AB67-CC26-4CC7-8D9F-F50CF5B96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5A82-0427-42D4-BB97-8A4AF7D3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5363-17E6-4EA2-9C41-6F48E257E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71CE-4089-4C51-8963-0BC9549CA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C30A-57F3-43F4-8AB5-E9385457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56B2-0C70-4FDF-85DC-3910E987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B811-6640-455A-ABCE-C2A75152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7DA9-971C-428A-8822-5CAC416C0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1C0B-AA9D-4F44-84DA-079D2312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40CB-C330-4DA7-8209-E133E33D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C222-8BC4-4B9E-83CA-FAADC364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EC54-B965-48A7-B4C4-B1240A90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04D6-E225-400D-8B99-400E28E2C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4:56:53Z</dcterms:created>
  <dc:creator>tatumadmin</dc:creator>
  <dc:description/>
  <dc:language>en-US</dc:language>
  <cp:lastModifiedBy>tatumadmin</cp:lastModifiedBy>
  <dcterms:modified xsi:type="dcterms:W3CDTF">2009-12-04T14:57:47Z</dcterms:modified>
  <cp:revision>1</cp:revision>
  <dc:subject/>
  <dc:title>Powerpoint </dc:title>
</cp:coreProperties>
</file>